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3.png" ContentType="image/png"/>
  <Override PartName="/ppt/media/image9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8.png" ContentType="image/png"/>
  <Override PartName="/ppt/media/image15.jpeg" ContentType="image/jpeg"/>
  <Override PartName="/ppt/media/image16.png" ContentType="image/png"/>
  <Override PartName="/ppt/media/image14.jpeg" ContentType="image/jpeg"/>
  <Override PartName="/ppt/media/image10.png" ContentType="image/png"/>
  <Override PartName="/ppt/media/image11.png" ContentType="image/png"/>
  <Override PartName="/ppt/media/image19.jpeg" ContentType="image/jpeg"/>
  <Override PartName="/ppt/media/image2.jpeg" ContentType="image/jpeg"/>
  <Override PartName="/ppt/media/image3.png" ContentType="image/png"/>
  <Override PartName="/ppt/media/image17.jpeg" ContentType="image/jpeg"/>
  <Override PartName="/ppt/media/image4.png" ContentType="image/png"/>
  <Override PartName="/ppt/media/image5.png" ContentType="image/png"/>
  <Override PartName="/ppt/media/image8.jpeg" ContentType="image/jpeg"/>
  <Override PartName="/ppt/media/image6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7D794-CCAE-4600-9642-81C53E5F33F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BAF430-98A8-4C34-9CF2-AF2DEEB3D3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B8FD26-DD0E-4EFF-AC22-635B32A36CE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5D81B8-B365-4581-832E-1D02FF4587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7E8A0-8E9A-4C0C-9079-680FEE379A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1C3C7-10A8-4359-ABD1-0FBB72E35E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5445A-EF6E-4DD7-9664-96CEBC29E4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D6D20-E461-44F3-8B1E-6401D1C40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9C6BB2-FF62-4CB5-B260-F8E92BDABE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CAAE2-04B1-4110-979B-CE3D4A658B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A202D-4284-4168-8AFF-635F381BFC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5926E-F31A-4AE5-B45F-A98F116F05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2324F0-DEF2-46A9-914E-387DA90B77CA}" type="slidenum">
              <a:rPr b="0" lang="ru-RU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hyperlink" Target="http://900igr.net/" TargetMode="External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www.tchaikov.ru/images/pushkin1.jpg" TargetMode="External"/><Relationship Id="rId3" Type="http://schemas.openxmlformats.org/officeDocument/2006/relationships/image" Target="../media/image16.png"/><Relationship Id="rId4" Type="http://schemas.openxmlformats.org/officeDocument/2006/relationships/image" Target="../media/image17.jpeg"/><Relationship Id="rId5" Type="http://schemas.openxmlformats.org/officeDocument/2006/relationships/image" Target="../media/image18.png"/><Relationship Id="rId6" Type="http://schemas.openxmlformats.org/officeDocument/2006/relationships/slide" Target="slide19.xml"/><Relationship Id="rId7" Type="http://schemas.openxmlformats.org/officeDocument/2006/relationships/slide" Target="slide18.xml"/><Relationship Id="rId8" Type="http://schemas.openxmlformats.org/officeDocument/2006/relationships/slide" Target="slide18.xml"/><Relationship Id="rId9" Type="http://schemas.openxmlformats.org/officeDocument/2006/relationships/slide" Target="slide18.xml"/><Relationship Id="rId10" Type="http://schemas.openxmlformats.org/officeDocument/2006/relationships/slide" Target="slide18.xml"/><Relationship Id="rId11" Type="http://schemas.openxmlformats.org/officeDocument/2006/relationships/slide" Target="slide18.xml"/><Relationship Id="rId12" Type="http://schemas.openxmlformats.org/officeDocument/2006/relationships/slide" Target="slide18.xml"/><Relationship Id="rId13" Type="http://schemas.openxmlformats.org/officeDocument/2006/relationships/slide" Target="slide18.xml"/><Relationship Id="rId14" Type="http://schemas.openxmlformats.org/officeDocument/2006/relationships/slide" Target="slide18.xml"/><Relationship Id="rId15" Type="http://schemas.openxmlformats.org/officeDocument/2006/relationships/slide" Target="slide18.xml"/><Relationship Id="rId16" Type="http://schemas.openxmlformats.org/officeDocument/2006/relationships/slide" Target="slide18.xml"/><Relationship Id="rId17" Type="http://schemas.openxmlformats.org/officeDocument/2006/relationships/slide" Target="slide19.xml"/><Relationship Id="rId18" Type="http://schemas.openxmlformats.org/officeDocument/2006/relationships/slide" Target="slide19.xml"/><Relationship Id="rId19" Type="http://schemas.openxmlformats.org/officeDocument/2006/relationships/slide" Target="slide19.xml"/><Relationship Id="rId20" Type="http://schemas.openxmlformats.org/officeDocument/2006/relationships/slide" Target="slide18.xml"/><Relationship Id="rId21" Type="http://schemas.openxmlformats.org/officeDocument/2006/relationships/slide" Target="slide18.xml"/><Relationship Id="rId22" Type="http://schemas.openxmlformats.org/officeDocument/2006/relationships/slide" Target="slide18.xml"/><Relationship Id="rId23" Type="http://schemas.openxmlformats.org/officeDocument/2006/relationships/slide" Target="slide18.xml"/><Relationship Id="rId24" Type="http://schemas.openxmlformats.org/officeDocument/2006/relationships/slide" Target="slide18.xml"/><Relationship Id="rId25" Type="http://schemas.openxmlformats.org/officeDocument/2006/relationships/slide" Target="slide18.xml"/><Relationship Id="rId26" Type="http://schemas.openxmlformats.org/officeDocument/2006/relationships/slide" Target="slide19.xml"/><Relationship Id="rId27" Type="http://schemas.openxmlformats.org/officeDocument/2006/relationships/slide" Target="slide19.xml"/><Relationship Id="rId28" Type="http://schemas.openxmlformats.org/officeDocument/2006/relationships/slide" Target="slide19.xml"/><Relationship Id="rId29" Type="http://schemas.openxmlformats.org/officeDocument/2006/relationships/slide" Target="slide18.xml"/><Relationship Id="rId30" Type="http://schemas.openxmlformats.org/officeDocument/2006/relationships/slide" Target="slide18.xml"/><Relationship Id="rId31" Type="http://schemas.openxmlformats.org/officeDocument/2006/relationships/slide" Target="slide18.xml"/><Relationship Id="rId32" Type="http://schemas.openxmlformats.org/officeDocument/2006/relationships/slide" Target="slide18.xml"/><Relationship Id="rId33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" Target="slide2.xml"/><Relationship Id="rId3" Type="http://schemas.openxmlformats.org/officeDocument/2006/relationships/slide" Target="slide2.xml"/><Relationship Id="rId4" Type="http://schemas.openxmlformats.org/officeDocument/2006/relationships/slide" Target="slide2.xml"/><Relationship Id="rId5" Type="http://schemas.openxmlformats.org/officeDocument/2006/relationships/slide" Target="slide3.xml"/><Relationship Id="rId6" Type="http://schemas.openxmlformats.org/officeDocument/2006/relationships/slide" Target="slide3.xml"/><Relationship Id="rId7" Type="http://schemas.openxmlformats.org/officeDocument/2006/relationships/slide" Target="slide3.xml"/><Relationship Id="rId8" Type="http://schemas.openxmlformats.org/officeDocument/2006/relationships/slide" Target="slide4.xml"/><Relationship Id="rId9" Type="http://schemas.openxmlformats.org/officeDocument/2006/relationships/slide" Target="slide4.xml"/><Relationship Id="rId10" Type="http://schemas.openxmlformats.org/officeDocument/2006/relationships/slide" Target="slide4.xml"/><Relationship Id="rId11" Type="http://schemas.openxmlformats.org/officeDocument/2006/relationships/slide" Target="slide5.xml"/><Relationship Id="rId12" Type="http://schemas.openxmlformats.org/officeDocument/2006/relationships/slide" Target="slide5.xml"/><Relationship Id="rId13" Type="http://schemas.openxmlformats.org/officeDocument/2006/relationships/slide" Target="slide5.xml"/><Relationship Id="rId14" Type="http://schemas.openxmlformats.org/officeDocument/2006/relationships/slide" Target="slide6.xml"/><Relationship Id="rId15" Type="http://schemas.openxmlformats.org/officeDocument/2006/relationships/slide" Target="slide6.xml"/><Relationship Id="rId16" Type="http://schemas.openxmlformats.org/officeDocument/2006/relationships/slide" Target="slide6.xml"/><Relationship Id="rId17" Type="http://schemas.openxmlformats.org/officeDocument/2006/relationships/slide" Target="slide8.xml"/><Relationship Id="rId18" Type="http://schemas.openxmlformats.org/officeDocument/2006/relationships/slide" Target="slide9.xml"/><Relationship Id="rId19" Type="http://schemas.openxmlformats.org/officeDocument/2006/relationships/slide" Target="slide9.xml"/><Relationship Id="rId20" Type="http://schemas.openxmlformats.org/officeDocument/2006/relationships/slide" Target="slide9.xml"/><Relationship Id="rId21" Type="http://schemas.openxmlformats.org/officeDocument/2006/relationships/slide" Target="slide9.xml"/><Relationship Id="rId22" Type="http://schemas.openxmlformats.org/officeDocument/2006/relationships/slide" Target="slide9.xml"/><Relationship Id="rId23" Type="http://schemas.openxmlformats.org/officeDocument/2006/relationships/slide" Target="slide10.xml"/><Relationship Id="rId24" Type="http://schemas.openxmlformats.org/officeDocument/2006/relationships/slide" Target="slide11.xml"/><Relationship Id="rId25" Type="http://schemas.openxmlformats.org/officeDocument/2006/relationships/slide" Target="slide11.xml"/><Relationship Id="rId26" Type="http://schemas.openxmlformats.org/officeDocument/2006/relationships/slide" Target="slide11.xml"/><Relationship Id="rId27" Type="http://schemas.openxmlformats.org/officeDocument/2006/relationships/slide" Target="slide12.xml"/><Relationship Id="rId28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115640" y="1125360"/>
            <a:ext cx="7124760" cy="25243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ffffff"/>
                </a:solidFill>
                <a:latin typeface="Monotype Corsiva"/>
              </a:rPr>
              <a:t>Особенности развития русской портретной живописи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619280" y="4149360"/>
            <a:ext cx="6400800" cy="2135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imes New Roman"/>
              </a:rPr>
              <a:t>От парсуны до  портрета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Скругленный прямоугольник 5">
            <a:hlinkClick r:id="rId2"/>
          </p:cNvPr>
          <p:cNvSpPr/>
          <p:nvPr/>
        </p:nvSpPr>
        <p:spPr>
          <a:xfrm>
            <a:off x="3898800" y="6477120"/>
            <a:ext cx="1346400" cy="35532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ffffff"/>
              </a:gs>
              <a:gs pos="100000">
                <a:srgbClr val="f1f1f1"/>
              </a:gs>
            </a:gsLst>
            <a:lin ang="5400000"/>
          </a:gradFill>
          <a:ln w="12600">
            <a:solidFill>
              <a:srgbClr val="3333cc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88920" rIns="88920" tIns="25560" bIns="5076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u="sng">
                <a:solidFill>
                  <a:srgbClr val="3333cc"/>
                </a:solidFill>
                <a:uFillTx/>
                <a:latin typeface="Arial"/>
              </a:rPr>
              <a:t>900igr.ne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0" y="25992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оветский период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80960" y="1769760"/>
            <a:ext cx="8204400" cy="4241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В советский период реалистический портрет-тип получил дальнейшее развитие в творчестве таких художников, как Г.Г. Ряжский (“Председательница”, 1928), М.В. Нестеров (“Портрет академика И.П. Павлова”, 1935). Типические особенности народного характера отразились в многочисленных образах крестьян, созданных художником А.А. Пластовым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Rectangle 11"/>
          <p:cNvSpPr/>
          <p:nvPr/>
        </p:nvSpPr>
        <p:spPr>
          <a:xfrm>
            <a:off x="468360" y="765000"/>
            <a:ext cx="4608360" cy="547236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95280" y="-100440"/>
            <a:ext cx="8540640" cy="1125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Середина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5148000" y="907920"/>
            <a:ext cx="3693960" cy="5616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сов. время реалистические начала творчества Н. получили качественно новое развитие. Он работал главным образом как портретист, создав замечательные образы деятелей науки и искусства. Эти портреты, в основном 1930-х гг. (П. Д. и А. Д. Кориных, 1930, А. Н. Северцова, 1934, И. Д. Шадра, 1934, С. С. Юдина, 1935, И. П. Павлова, 1935, Государственная премия СССР, 1941; К. Г. Держинской, 1937, Е. С. Кругликозой, 1938, В. И. Мухиной, 1940, — все в Третьяковской галерее), выдвинули художника в ряд ведущих мастеров живописи социалистического реализма. Их объединяют ощущение богатства духовной жизни, творческого горения, разнообразие остро выявленных характеров и гибкость в выборе средств, наиболее рельефно выражающих психологических склад и настроение человека. Портретам свойственны совершенство картинной формы, гармоничное, чёткое построение композиции, точность живописной характеристики объёма и пространства</a:t>
            </a:r>
            <a:r>
              <a:rPr b="0" lang="ru-RU" sz="14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10" descr="nb_pinacoteca_nesterov_portrait_of_count_leo_tolstoy"/>
          <p:cNvPicPr/>
          <p:nvPr/>
        </p:nvPicPr>
        <p:blipFill>
          <a:blip r:embed="rId2"/>
          <a:stretch/>
        </p:blipFill>
        <p:spPr>
          <a:xfrm>
            <a:off x="539640" y="836640"/>
            <a:ext cx="4413240" cy="5329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Rectangle 12"/>
          <p:cNvSpPr/>
          <p:nvPr/>
        </p:nvSpPr>
        <p:spPr>
          <a:xfrm>
            <a:off x="2916360" y="765000"/>
            <a:ext cx="2735280" cy="345600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7819" dir="2700000" blurRad="0" rotWithShape="0">
              <a:srgbClr val="91928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24000" y="-17172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торая полови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5724000" y="836280"/>
            <a:ext cx="2824200" cy="5614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Острую психологическую характеристику своих моделей дают такие известные портретисты, как П.Д. Корин (“Портрет скульптора С.Т. Коненкова”, 1947), Т.Т. Салахов (“Композитор Кара Караев, 1960), Д.И. Жилинский (“Портрет скульптора И.С. Ефимова”, 1954) и многие другие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000000"/>
                </a:solidFill>
                <a:latin typeface="Times New Roman"/>
              </a:rPr>
              <a:t>В настоящее время в портретном жанре успешно работают такие художники, как Н. Сафронов, исполнивший множество живописных образов знаменитых политиков, актеров и музыкантов, И.С. Глазунов, создавший целую галерею портретов известных деятелей науки и культуры. Огромный вклад в развитие русской портретной живописи внес А.М. Шилов (“Портрет академика И.Л. Кнунянца”, 1974; “Портрет Оли”, 1974).</a:t>
            </a:r>
            <a:r>
              <a:rPr b="0" lang="ru-RU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8" descr="XGetDBPicServlet?xpub_id=4802&amp;img_id=2"/>
          <p:cNvPicPr/>
          <p:nvPr/>
        </p:nvPicPr>
        <p:blipFill>
          <a:blip r:embed="rId2"/>
          <a:stretch/>
        </p:blipFill>
        <p:spPr>
          <a:xfrm>
            <a:off x="2987640" y="836640"/>
            <a:ext cx="2583000" cy="33116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89" name="Rectangle 13"/>
          <p:cNvSpPr/>
          <p:nvPr/>
        </p:nvSpPr>
        <p:spPr>
          <a:xfrm>
            <a:off x="395280" y="2781360"/>
            <a:ext cx="3024360" cy="3672000"/>
          </a:xfrm>
          <a:prstGeom prst="rect">
            <a:avLst/>
          </a:prstGeom>
          <a:solidFill>
            <a:srgbClr val="f2f3ed"/>
          </a:solidFill>
          <a:ln w="0">
            <a:noFill/>
          </a:ln>
          <a:effectLst>
            <a:outerShdw dist="17819" dir="2700000" blurRad="0" rotWithShape="0">
              <a:srgbClr val="91928e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0" descr="glazunov-4"/>
          <p:cNvPicPr/>
          <p:nvPr/>
        </p:nvPicPr>
        <p:blipFill>
          <a:blip r:embed="rId3"/>
          <a:stretch/>
        </p:blipFill>
        <p:spPr>
          <a:xfrm>
            <a:off x="468360" y="2852640"/>
            <a:ext cx="2859120" cy="3529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опросы</a:t>
            </a:r>
            <a:r>
              <a:rPr b="0" lang="ru-RU" sz="2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755640" y="1483920"/>
            <a:ext cx="81374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1.   Расскажите, чем парсуна отличается от иконы и портрет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2.  Что повлияло на возникновение портретного жанра в русском искусстве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3.  Назовите первых русских портретистов (начало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VIII 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века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)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4.  Что нового привнес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IX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 век в русскую портретную живопись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5.  Назовите великих мастеров портрета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IX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 века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6.  Новые влияния в живописи начала </a:t>
            </a:r>
            <a:r>
              <a:rPr b="1" lang="en-US" sz="2000" spc="-1" strike="noStrike">
                <a:solidFill>
                  <a:srgbClr val="221700"/>
                </a:solidFill>
                <a:latin typeface="Times New Roman"/>
              </a:rPr>
              <a:t>XX </a:t>
            </a:r>
            <a:r>
              <a:rPr b="1" lang="ru-RU" sz="2000" spc="-1" strike="noStrike">
                <a:solidFill>
                  <a:srgbClr val="221700"/>
                </a:solidFill>
                <a:latin typeface="Times New Roman"/>
              </a:rPr>
              <a:t>века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Rectangle 35"/>
          <p:cNvSpPr/>
          <p:nvPr/>
        </p:nvSpPr>
        <p:spPr>
          <a:xfrm>
            <a:off x="5940360" y="1341360"/>
            <a:ext cx="237672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Rectangle 33"/>
          <p:cNvSpPr/>
          <p:nvPr/>
        </p:nvSpPr>
        <p:spPr>
          <a:xfrm>
            <a:off x="3276720" y="1341360"/>
            <a:ext cx="244764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Rectangle 32"/>
          <p:cNvSpPr/>
          <p:nvPr/>
        </p:nvSpPr>
        <p:spPr>
          <a:xfrm>
            <a:off x="684360" y="1341360"/>
            <a:ext cx="2374920" cy="504036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Задание</a:t>
            </a: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539640" y="836280"/>
            <a:ext cx="807264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Times New Roman"/>
              </a:rPr>
              <a:t>Определите к какому времени принадлежат портреты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8" name="Picture 4" descr="Портрет А. С. Пушкина работы О. А. Кипренского. 1827. ГТГ - кликните по картинке!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826920" y="1484280"/>
            <a:ext cx="21402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99" name="Picture 5" descr="13081249_Portret_A"/>
          <p:cNvPicPr/>
          <p:nvPr/>
        </p:nvPicPr>
        <p:blipFill>
          <a:blip r:embed="rId4">
            <a:lum contrast="-18000"/>
          </a:blip>
          <a:stretch/>
        </p:blipFill>
        <p:spPr>
          <a:xfrm>
            <a:off x="6156360" y="1484280"/>
            <a:ext cx="19638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pic>
        <p:nvPicPr>
          <p:cNvPr id="100" name="Picture 6" descr="ioann_vasilyevich_groznyi"/>
          <p:cNvPicPr/>
          <p:nvPr/>
        </p:nvPicPr>
        <p:blipFill>
          <a:blip r:embed="rId5"/>
          <a:stretch/>
        </p:blipFill>
        <p:spPr>
          <a:xfrm>
            <a:off x="3419640" y="1484280"/>
            <a:ext cx="2095200" cy="259236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101" name="Text Box 7"/>
          <p:cNvSpPr/>
          <p:nvPr/>
        </p:nvSpPr>
        <p:spPr>
          <a:xfrm>
            <a:off x="971640" y="4365720"/>
            <a:ext cx="208764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Text Box 13"/>
          <p:cNvSpPr/>
          <p:nvPr/>
        </p:nvSpPr>
        <p:spPr>
          <a:xfrm>
            <a:off x="971640" y="5013360"/>
            <a:ext cx="1944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6" action="ppaction://hlinksldjump"/>
              </a:rPr>
              <a:t>Живопись 1830 – 1850-х г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Text Box 16"/>
          <p:cNvSpPr/>
          <p:nvPr/>
        </p:nvSpPr>
        <p:spPr>
          <a:xfrm>
            <a:off x="971640" y="4221000"/>
            <a:ext cx="18716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7" action="ppaction://hlinksldjump"/>
              </a:rPr>
              <a:t>Вторая полови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8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9" action="ppaction://hlinksldjump"/>
              </a:rPr>
              <a:t>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0" action="ppaction://hlinksldjump"/>
              </a:rPr>
              <a:t>XX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1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Text Box 18"/>
          <p:cNvSpPr/>
          <p:nvPr/>
        </p:nvSpPr>
        <p:spPr>
          <a:xfrm>
            <a:off x="971640" y="5661000"/>
            <a:ext cx="194472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2" action="ppaction://hlinksldjump"/>
              </a:rPr>
              <a:t>Конец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3" action="ppaction://hlinksldjump"/>
              </a:rPr>
              <a:t>XI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4" action="ppaction://hlinksldjump"/>
              </a:rPr>
              <a:t>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5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6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Text Box 20"/>
          <p:cNvSpPr/>
          <p:nvPr/>
        </p:nvSpPr>
        <p:spPr>
          <a:xfrm>
            <a:off x="3473640" y="5032440"/>
            <a:ext cx="180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Text Box 23"/>
          <p:cNvSpPr/>
          <p:nvPr/>
        </p:nvSpPr>
        <p:spPr>
          <a:xfrm>
            <a:off x="3564000" y="4365720"/>
            <a:ext cx="2073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7" action="ppaction://hlinksldjump"/>
              </a:rPr>
              <a:t>Парсу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18" action="ppaction://hlinksldjump"/>
              </a:rPr>
              <a:t>XV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19" action="ppaction://hlinksldjump"/>
              </a:rPr>
              <a:t>ве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Text Box 24"/>
          <p:cNvSpPr/>
          <p:nvPr/>
        </p:nvSpPr>
        <p:spPr>
          <a:xfrm>
            <a:off x="3564000" y="5013360"/>
            <a:ext cx="18000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0" action="ppaction://hlinksldjump"/>
              </a:rPr>
              <a:t>Середина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1" action="ppaction://hlinksldjump"/>
              </a:rPr>
              <a:t>X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2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Text Box 25"/>
          <p:cNvSpPr/>
          <p:nvPr/>
        </p:nvSpPr>
        <p:spPr>
          <a:xfrm>
            <a:off x="3564000" y="5661000"/>
            <a:ext cx="2089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3" action="ppaction://hlinksldjump"/>
              </a:rPr>
              <a:t>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4" action="ppaction://hlinksldjump"/>
              </a:rPr>
              <a:t>XVI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5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28"/>
          <p:cNvSpPr/>
          <p:nvPr/>
        </p:nvSpPr>
        <p:spPr>
          <a:xfrm>
            <a:off x="6227640" y="4941720"/>
            <a:ext cx="1747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6" action="ppaction://hlinksldjump"/>
              </a:rPr>
              <a:t>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27" action="ppaction://hlinksldjump"/>
              </a:rPr>
              <a:t>XVIII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8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Text Box 29"/>
          <p:cNvSpPr/>
          <p:nvPr/>
        </p:nvSpPr>
        <p:spPr>
          <a:xfrm>
            <a:off x="6351480" y="5537160"/>
            <a:ext cx="160524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Text Box 30"/>
          <p:cNvSpPr/>
          <p:nvPr/>
        </p:nvSpPr>
        <p:spPr>
          <a:xfrm>
            <a:off x="6227640" y="5445000"/>
            <a:ext cx="1873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29" action="ppaction://hlinksldjump"/>
              </a:rPr>
              <a:t>Живопись 1830 – 1850-х годов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Text Box 31"/>
          <p:cNvSpPr/>
          <p:nvPr/>
        </p:nvSpPr>
        <p:spPr>
          <a:xfrm>
            <a:off x="6156360" y="4292640"/>
            <a:ext cx="223200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0" action="ppaction://hlinksldjump"/>
              </a:rPr>
              <a:t>Конец XVIII века – начало 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Arial"/>
                <a:hlinkClick r:id="rId31" action="ppaction://hlinksldjump"/>
              </a:rPr>
              <a:t>XIX </a:t>
            </a:r>
            <a:r>
              <a:rPr b="0" lang="ru-RU" sz="1400" spc="-1" strike="noStrike" u="sng">
                <a:solidFill>
                  <a:srgbClr val="009999"/>
                </a:solidFill>
                <a:uFillTx/>
                <a:latin typeface="Arial"/>
                <a:hlinkClick r:id="rId32" action="ppaction://hlinksldjump"/>
              </a:rPr>
              <a:t>век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Rectangle 4"/>
          <p:cNvSpPr/>
          <p:nvPr/>
        </p:nvSpPr>
        <p:spPr>
          <a:xfrm>
            <a:off x="1619280" y="1341360"/>
            <a:ext cx="5905440" cy="44640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одержание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1763640" y="14842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" action="ppaction://hlinksldjump"/>
              </a:rPr>
              <a:t>Парсу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3" action="ppaction://hlinksldjump"/>
              </a:rPr>
              <a:t>XV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4" action="ppaction://hlinksldjump"/>
              </a:rPr>
              <a:t>ве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5" action="ppaction://hlinksldjump"/>
              </a:rPr>
              <a:t>Конец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6" action="ppaction://hlinksldjump"/>
              </a:rPr>
              <a:t>XV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7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8" action="ppaction://hlinksldjump"/>
              </a:rPr>
              <a:t>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9" action="ppaction://hlinksldjump"/>
              </a:rPr>
              <a:t>XVI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0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1" action="ppaction://hlinksldjump"/>
              </a:rPr>
              <a:t>Середи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2" action="ppaction://hlinksldjump"/>
              </a:rPr>
              <a:t>XVIII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3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4" action="ppaction://hlinksldjump"/>
              </a:rPr>
              <a:t>Конец XVIII века – 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5" action="ppaction://hlinksldjump"/>
              </a:rPr>
              <a:t>XI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6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7" action="ppaction://hlinksldjump"/>
              </a:rPr>
              <a:t>Живопись 1830 – 1850-х год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8" action="ppaction://hlinksldjump"/>
              </a:rPr>
              <a:t>Конец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19" action="ppaction://hlinksldjump"/>
              </a:rPr>
              <a:t>XI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0" action="ppaction://hlinksldjump"/>
              </a:rPr>
              <a:t>века – начало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1" action="ppaction://hlinksldjump"/>
              </a:rPr>
              <a:t>X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2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3" action="ppaction://hlinksldjump"/>
              </a:rPr>
              <a:t>Советский период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4" action="ppaction://hlinksldjump"/>
              </a:rPr>
              <a:t>Середина </a:t>
            </a:r>
            <a:r>
              <a:rPr b="0" lang="en-US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5" action="ppaction://hlinksldjump"/>
              </a:rPr>
              <a:t>XX </a:t>
            </a: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6" action="ppaction://hlinksldjump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 u="sng">
                <a:solidFill>
                  <a:srgbClr val="009999"/>
                </a:solidFill>
                <a:uFillTx/>
                <a:latin typeface="Lucida Sans Unicode"/>
                <a:hlinkClick r:id="rId27" action="ppaction://hlinksldjump"/>
              </a:rPr>
              <a:t>Вторая половина </a:t>
            </a:r>
            <a:r>
              <a:rPr b="0" lang="en-US" sz="18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1800" spc="-1" strike="noStrike">
                <a:solidFill>
                  <a:srgbClr val="221700"/>
                </a:solidFill>
                <a:latin typeface="Lucida Sans Unicode"/>
              </a:rPr>
              <a:t>XXI </a:t>
            </a: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0000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000000"/>
                </a:solidFill>
                <a:latin typeface="Lucida Sans Unicode"/>
              </a:rPr>
              <a:t>Вопросы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451"/>
              </a:spcBef>
              <a:buClr>
                <a:srgbClr val="221700"/>
              </a:buClr>
              <a:buFont typeface="Lucida Sans Unicode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Lucida Sans Unicode"/>
              </a:rPr>
              <a:t>Задание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221700"/>
                </a:solidFill>
                <a:latin typeface="Times New Roman"/>
              </a:rPr>
              <a:t>Сопроводительный лис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610920" y="1125000"/>
            <a:ext cx="6481800" cy="5000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Тема: Особенности развития русской портретной живописи. От парсуны до портрета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Автор: Африна Н. Ю., студентка ХГФ МПГУ 304 группы, </a:t>
            </a:r>
            <a:r>
              <a:rPr b="0" lang="en-US" sz="1800" spc="-1" strike="noStrike">
                <a:solidFill>
                  <a:srgbClr val="221700"/>
                </a:solidFill>
                <a:latin typeface="Times New Roman"/>
              </a:rPr>
              <a:t>nadia0509@mail.ru</a:t>
            </a: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Научный руководитель: кандидат педагогических наук, доцент Гудилина С.И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Для кого: 9 -11 классов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221700"/>
                </a:solidFill>
                <a:latin typeface="Times New Roman"/>
              </a:rPr>
              <a:t>Цели: Ознакомление с историей и развитием русской портретной живописи,                  эстетическое воспитание учащихся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Text Box 4"/>
          <p:cNvSpPr/>
          <p:nvPr/>
        </p:nvSpPr>
        <p:spPr>
          <a:xfrm>
            <a:off x="539640" y="4653000"/>
            <a:ext cx="8064720" cy="2143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Аннотация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      </a:t>
            </a: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Презентация содержит информацию о развитии русского портрета начиная от парсуны </a:t>
            </a:r>
            <a:r>
              <a:rPr b="0" lang="en-US" sz="2000" spc="-1" strike="noStrike">
                <a:solidFill>
                  <a:srgbClr val="221700"/>
                </a:solidFill>
                <a:latin typeface="Times New Roman"/>
              </a:rPr>
              <a:t>XVII </a:t>
            </a:r>
            <a:r>
              <a:rPr b="0" lang="ru-RU" sz="2000" spc="-1" strike="noStrike">
                <a:solidFill>
                  <a:srgbClr val="221700"/>
                </a:solidFill>
                <a:latin typeface="Times New Roman"/>
              </a:rPr>
              <a:t>века. В презентации указаны основные этапы становления русской портретной живописи. Также включает в себя вопросы и задание для самопроверки учащихся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Picture 5" descr="Untitled-2"/>
          <p:cNvPicPr/>
          <p:nvPr/>
        </p:nvPicPr>
        <p:blipFill>
          <a:blip r:embed="rId2"/>
          <a:stretch/>
        </p:blipFill>
        <p:spPr>
          <a:xfrm>
            <a:off x="7308720" y="620640"/>
            <a:ext cx="1177920" cy="172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692360" y="981000"/>
            <a:ext cx="5759280" cy="12096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221700"/>
                </a:solidFill>
                <a:latin typeface="Lucida Sans Unicode"/>
              </a:rPr>
              <a:t>Список литератур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1332000" y="2492280"/>
            <a:ext cx="7354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Д. В Сарабьянов, история русского и советского искусства, издательство «высшая школа» М., 1979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http://www.primart.ru/istoria/ist_port/ist_001.htm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Text Box 20"/>
          <p:cNvSpPr/>
          <p:nvPr/>
        </p:nvSpPr>
        <p:spPr>
          <a:xfrm>
            <a:off x="2268360" y="2421000"/>
            <a:ext cx="475164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Не правильный от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Text Box 21"/>
          <p:cNvSpPr/>
          <p:nvPr/>
        </p:nvSpPr>
        <p:spPr>
          <a:xfrm>
            <a:off x="2700360" y="2997360"/>
            <a:ext cx="381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рнуться к зад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Text Box 6"/>
          <p:cNvSpPr/>
          <p:nvPr/>
        </p:nvSpPr>
        <p:spPr>
          <a:xfrm>
            <a:off x="2484360" y="2421000"/>
            <a:ext cx="4321080" cy="5814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Lucida Sans Unicode"/>
              </a:rPr>
              <a:t>Правильный ответ!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7"/>
          <p:cNvSpPr/>
          <p:nvPr/>
        </p:nvSpPr>
        <p:spPr>
          <a:xfrm>
            <a:off x="2771640" y="3068640"/>
            <a:ext cx="35276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рнуться к заданию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8"/>
          <p:cNvSpPr/>
          <p:nvPr/>
        </p:nvSpPr>
        <p:spPr>
          <a:xfrm>
            <a:off x="250920" y="981000"/>
            <a:ext cx="4249800" cy="48960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94920" y="-360"/>
            <a:ext cx="8379000" cy="90972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Парсу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642920" y="981000"/>
            <a:ext cx="4248360" cy="6408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арсуна появляется в переходный период русской истории, во время преобразования средневекового мировоззрения и складывания новых художественных идеалов. Первые русские парсуны создаются, скорее всего, мастерами Оружейной палаты Московского Кремля в XVII в. Наиболее известным автором парсун считается Симон Ушаков. По стилю, приемам и материалам живописи парсуны первоначально ничем не отличаются от икон, выполняются на иконных досках с ковчегом. Иногда пишется такой составляющий элемент иконы, как нимб вокруг головы персонажа. Во второй половине XVII в. парсуна часто пишется на холсте в технике масляной живописи, хотя манера исполнения продолжает содержать иконописные традиции. Временем окончательного превращения парсунной живописи в западноевропейский живописный портрет считаются 1760-е гг., однако, в провинции техника парсуны существовала и в более поздний период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арсуне портретное сходство передается весьма условно, часто используются атрибуты и подпись, позволяющие идентифицировать изображенного. Персонажами являются, прежде всего, цари, князья, военачальники, церковные иерархи.</a:t>
            </a:r>
            <a:r>
              <a:rPr b="0" lang="ru-RU" sz="1400" spc="-1" strike="noStrike">
                <a:solidFill>
                  <a:srgbClr val="2217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7" name="Picture 5" descr="15272"/>
          <p:cNvPicPr/>
          <p:nvPr/>
        </p:nvPicPr>
        <p:blipFill>
          <a:blip r:embed="rId2"/>
          <a:stretch/>
        </p:blipFill>
        <p:spPr>
          <a:xfrm>
            <a:off x="324000" y="1052640"/>
            <a:ext cx="4105080" cy="4751280"/>
          </a:xfrm>
          <a:prstGeom prst="rect">
            <a:avLst/>
          </a:prstGeom>
          <a:ln w="936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</p:pic>
      <p:pic>
        <p:nvPicPr>
          <p:cNvPr id="48" name="brandenburg_concerto_n3_bwv_1048_-_1_allegro.mp3" descr=""/>
          <p:cNvPicPr/>
          <p:nvPr/>
        </p:nvPicPr>
        <p:blipFill>
          <a:blip r:embed="rId3"/>
          <a:stretch/>
        </p:blipFill>
        <p:spPr>
          <a:xfrm>
            <a:off x="468360" y="6237360"/>
            <a:ext cx="304920" cy="3045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4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Rectangle 10"/>
          <p:cNvSpPr/>
          <p:nvPr/>
        </p:nvSpPr>
        <p:spPr>
          <a:xfrm>
            <a:off x="539640" y="765000"/>
            <a:ext cx="4392720" cy="5616720"/>
          </a:xfrm>
          <a:prstGeom prst="rect">
            <a:avLst/>
          </a:prstGeom>
          <a:solidFill>
            <a:srgbClr val="ebf1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6836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Конец </a:t>
            </a:r>
            <a:r>
              <a:rPr b="0" lang="en-US" sz="2400" spc="-1" strike="noStrike">
                <a:solidFill>
                  <a:srgbClr val="000000"/>
                </a:solidFill>
                <a:latin typeface="Lucida Sans Unicode"/>
              </a:rPr>
              <a:t>XVII </a:t>
            </a:r>
            <a:r>
              <a:rPr b="0" lang="ru-RU" sz="2400" spc="-1" strike="noStrike">
                <a:solidFill>
                  <a:srgbClr val="0000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03640" y="907560"/>
            <a:ext cx="3672000" cy="5543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еизвестный художник конца 17 века 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ортрет Якова Федоровича Тургенева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е позднее 1695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лоскостность изображения, локальность цвета, резкие контуры говорят о традициях, связывающих его с приемами древнерусской живописи. Однако в основе художественного видения мастера уже преобладают натурные наблюдения. Они сказываются в искусной передаче материала и деталей одежды, но более всего — в экспрессии лица и позы портретируемого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7" descr="Портрет Якова Тургенева"/>
          <p:cNvPicPr/>
          <p:nvPr/>
        </p:nvPicPr>
        <p:blipFill>
          <a:blip r:embed="rId2"/>
          <a:stretch/>
        </p:blipFill>
        <p:spPr>
          <a:xfrm>
            <a:off x="611280" y="836640"/>
            <a:ext cx="4216320" cy="5472000"/>
          </a:xfrm>
          <a:prstGeom prst="rect">
            <a:avLst/>
          </a:prstGeom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</p:pic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8"/>
          <p:cNvSpPr/>
          <p:nvPr/>
        </p:nvSpPr>
        <p:spPr>
          <a:xfrm>
            <a:off x="539640" y="981000"/>
            <a:ext cx="4319640" cy="540072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-360"/>
            <a:ext cx="8386560" cy="91116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5292360" y="1196640"/>
            <a:ext cx="3321000" cy="6769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ервые десятилетия после основания Петербурга в нем выдвинулась группа молодых художников, порвавших с застывшими каноническими формами древнерусского искусства, обратившихся к изображению реального мира, к передаче психологического облика человека.  Первые русские портретисты Иван Никитин и Андрей Матвеев были посланы Петром I за границу совершенствовать свое живописное мастерство</a:t>
            </a:r>
            <a:r>
              <a:rPr b="1" lang="ru-RU" sz="1400" spc="-1" strike="noStrike">
                <a:solidFill>
                  <a:srgbClr val="2217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6" name="Picture 5" descr="999783894"/>
          <p:cNvPicPr/>
          <p:nvPr/>
        </p:nvPicPr>
        <p:blipFill>
          <a:blip r:embed="rId2"/>
          <a:stretch/>
        </p:blipFill>
        <p:spPr>
          <a:xfrm>
            <a:off x="611280" y="1052640"/>
            <a:ext cx="4163760" cy="52560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Rectangle 20"/>
          <p:cNvSpPr/>
          <p:nvPr/>
        </p:nvSpPr>
        <p:spPr>
          <a:xfrm>
            <a:off x="468360" y="836640"/>
            <a:ext cx="4390920" cy="540072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08000" y="-1004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Середина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VIII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5148000" y="907920"/>
            <a:ext cx="3344760" cy="5950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Это сочетание объемно написанной головы и несколько более плоскостно и декоративно трактованной фигуры в изукрашенном наряде, выступающей чаще всего из темного фона, придает портретам Вишнякова особую прелесть. Он относится к числу тех редких, рождающихся обычно в переходные эпохи, художников, в искусстве которых утонченное мастерство соединяется с наивностью, а изысканность - с непосредственностью восприятия. Поэтому созданный им образ Сарры Фермор - одетой во "взрослое" платье очаровательной девочки с непомерно длинными руками - стал своеобразным символом всего русского искусства середины XVIII столетия.</a:t>
            </a:r>
            <a:r>
              <a:rPr b="1" lang="ru-RU" sz="1400" spc="-1" strike="noStrike">
                <a:solidFill>
                  <a:srgbClr val="2217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19" descr="5448"/>
          <p:cNvPicPr/>
          <p:nvPr/>
        </p:nvPicPr>
        <p:blipFill>
          <a:blip r:embed="rId2"/>
          <a:stretch/>
        </p:blipFill>
        <p:spPr>
          <a:xfrm>
            <a:off x="539640" y="907920"/>
            <a:ext cx="4221360" cy="525780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Rectangle 9"/>
          <p:cNvSpPr/>
          <p:nvPr/>
        </p:nvSpPr>
        <p:spPr>
          <a:xfrm>
            <a:off x="611280" y="836640"/>
            <a:ext cx="4176720" cy="5329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395280" y="-1717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Конец XVIII 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I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858920" y="764640"/>
            <a:ext cx="3814920" cy="5688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XVIII век вошел в историю русского живописного искусства как «век портрета», одним из лучших его портретистов является Владимир Лукич Боровиковский. Портрет М. И. Лопухиной — одно из поэтичнейших произведений  Боровиковского, в которых отразилось влияние стиля сентиментализма.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Прелестная молодая женщина показана в уединенном уголке парка, в изображение которого художник условно привносит мотивы русской сельской природы. 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С ленивой и томной грацией Лопухина облокотилась на садовый парапет. Пейзажный фон, подчеркивая близость к природе, соответствует мечтательной настроенности молодой женщины. В портрете поражает удивительная гармоничность образа и средств выражения. Грустно задумчивому взгляду, нежной улыбке, свободной, чуть усталой позе Лопухиной отвечают плавный ритм линий, мягкая округлость форм, нежные тона белого платья, голубого пояса, сиреневых шарфа и розы, пепельные волосы, неяркая зелень древесной листвы. Мягкая воздушная дымка заполняет пространство.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8" descr="1lopuhina"/>
          <p:cNvPicPr/>
          <p:nvPr/>
        </p:nvPicPr>
        <p:blipFill>
          <a:blip r:embed="rId2">
            <a:lum contrast="-18000"/>
          </a:blip>
          <a:stretch/>
        </p:blipFill>
        <p:spPr>
          <a:xfrm>
            <a:off x="611280" y="907920"/>
            <a:ext cx="4032000" cy="5185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10920" y="1196640"/>
            <a:ext cx="7777080" cy="4498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400" spc="-1" strike="noStrike">
                <a:solidFill>
                  <a:srgbClr val="221700"/>
                </a:solidFill>
                <a:latin typeface="Times New Roman"/>
              </a:rPr>
              <a:t>Жанр портрета становится необыкновенно популярным в русском искусстве конца XVIII века. Это подтверждает и широкое распространение провинциального портрета. Как правило, их заказчиками были представители небогатого дворянства и купечества, а иногда и знатные вельможи. Зачастую провинциальные художники копировали существующие образцы, повторяли приемы, разработанные столичной школой. Таков представленный на выставке овальный портрет императрицы Екатерины II, который, скорее всего, выполнен на основе гравюрного оригинала.</a:t>
            </a:r>
            <a:r>
              <a:rPr b="1" lang="ru-RU" sz="2400" spc="-1" strike="noStrike">
                <a:solidFill>
                  <a:srgbClr val="2217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Rectangle 13"/>
          <p:cNvSpPr/>
          <p:nvPr/>
        </p:nvSpPr>
        <p:spPr>
          <a:xfrm>
            <a:off x="250920" y="692280"/>
            <a:ext cx="2736720" cy="3313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4000" y="-10044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Живопись 1830 – 1850-х годов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03640" y="836280"/>
            <a:ext cx="3888000" cy="5832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Творчество Брюллова внесло в живопись русского классицизма струю романтизма, жизненности. Произведения Брюллова отмечены утверждением чувственно-пластической красоты человека, драматической напряженностью образов, реалистическими тенденциями, тонким психологизмом. Блестящий мастер парадного портрета.</a:t>
            </a:r>
            <a:br>
              <a:rPr sz="1400"/>
            </a:b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В произведениях В.А. Тропинина, С.К. Зарянко, П.А. Федотова мы имеем дело с теми же свойственными времени тенденциями максимального приближения к натуре, к интимной, частной жизни человека. В поздних работах П.А. Федотова (Вдовушка; Анкор, еще анкор, ГТГ) уже видна попытка передать тягостную атмосферу, окружающую бедных людей, настроение безотрадной тоски, наполнить картину социальным смыслом. Однако все эти задачи было трудно решить в рамках стиля бидермайер. Новые требования к жизни вызывали в искусстве появление новых средств выражения. На смену идиллического изображения селян и натюрмортов пришли остросоциальные проблемы и новый стиль - критический реализм, который стал ведущим в русском искусстве второй половины XIX века</a:t>
            </a:r>
            <a:r>
              <a:rPr b="0" lang="ru-RU" sz="14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0" name="Picture 10" descr="natali"/>
          <p:cNvPicPr/>
          <p:nvPr/>
        </p:nvPicPr>
        <p:blipFill>
          <a:blip r:embed="rId2"/>
          <a:stretch/>
        </p:blipFill>
        <p:spPr>
          <a:xfrm>
            <a:off x="324000" y="765000"/>
            <a:ext cx="2579400" cy="316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1" name="Rectangle 14"/>
          <p:cNvSpPr/>
          <p:nvPr/>
        </p:nvSpPr>
        <p:spPr>
          <a:xfrm>
            <a:off x="2411280" y="2924280"/>
            <a:ext cx="2808360" cy="345744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53753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12" descr="fedotov07"/>
          <p:cNvPicPr/>
          <p:nvPr/>
        </p:nvPicPr>
        <p:blipFill>
          <a:blip r:embed="rId3"/>
          <a:stretch/>
        </p:blipFill>
        <p:spPr>
          <a:xfrm>
            <a:off x="2484360" y="2997360"/>
            <a:ext cx="2627280" cy="331308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Rectangle 17"/>
          <p:cNvSpPr/>
          <p:nvPr/>
        </p:nvSpPr>
        <p:spPr>
          <a:xfrm>
            <a:off x="324000" y="907920"/>
            <a:ext cx="2808000" cy="302580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0" y="-360"/>
            <a:ext cx="8540640" cy="1143000"/>
          </a:xfrm>
          <a:prstGeom prst="rect">
            <a:avLst/>
          </a:prstGeom>
          <a:noFill/>
          <a:ln w="0">
            <a:noFill/>
          </a:ln>
          <a:effectLst>
            <a:outerShdw dist="36147" dir="2700000" blurRad="0" rotWithShape="0">
              <a:srgbClr val="808080"/>
            </a:outerShdw>
          </a:effectLst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Конец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I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 – начало </a:t>
            </a:r>
            <a:r>
              <a:rPr b="0" lang="en-US" sz="2400" spc="-1" strike="noStrike">
                <a:solidFill>
                  <a:srgbClr val="221700"/>
                </a:solidFill>
                <a:latin typeface="Lucida Sans Unicode"/>
              </a:rPr>
              <a:t>XX </a:t>
            </a:r>
            <a:r>
              <a:rPr b="0" lang="ru-RU" sz="2400" spc="-1" strike="noStrike">
                <a:solidFill>
                  <a:srgbClr val="221700"/>
                </a:solidFill>
                <a:latin typeface="Lucida Sans Unicode"/>
              </a:rPr>
              <a:t>века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5580000" y="1052640"/>
            <a:ext cx="3168720" cy="4897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Живописное мастерство, совершенство рисунка Серова необыкновенно высоки. Полнота эмоционального воздействия произведений художника объясняется умением найти точные изобразительные средства и в совершенной форме воплотить многогранную картину жизни. Портрет работы В. А. Серова- "Портрет Портретыч", как шутя называл этот жанр художник, - не просто талантливое воссоздание черт индивидуального лица, но -и мир, в котором живет изображаемый человек.   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0">
              <a:lnSpc>
                <a:spcPct val="80000"/>
              </a:lnSpc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32640" indent="-332640">
              <a:lnSpc>
                <a:spcPct val="80000"/>
              </a:lnSpc>
              <a:spcBef>
                <a:spcPts val="349"/>
              </a:spcBef>
              <a:buClr>
                <a:srgbClr val="2217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400" spc="-1" strike="noStrike">
                <a:solidFill>
                  <a:srgbClr val="221700"/>
                </a:solidFill>
                <a:latin typeface="Times New Roman"/>
              </a:rPr>
              <a:t>На рубеже 19 и20 вв. искусство ряда передвижников стало утрачивать глубину отражения жизни, обличительный пафос. ТПХВ теряло былое общественное влияние, но основное ядро передвижников до конца сохранило верность реализму и демократическим идеалам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9" descr="serov_dev"/>
          <p:cNvPicPr/>
          <p:nvPr/>
        </p:nvPicPr>
        <p:blipFill>
          <a:blip r:embed="rId2"/>
          <a:stretch/>
        </p:blipFill>
        <p:spPr>
          <a:xfrm>
            <a:off x="395280" y="981000"/>
            <a:ext cx="2616120" cy="288144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  <p:sp>
        <p:nvSpPr>
          <p:cNvPr id="77" name="Rectangle 15"/>
          <p:cNvSpPr/>
          <p:nvPr/>
        </p:nvSpPr>
        <p:spPr>
          <a:xfrm>
            <a:off x="2627280" y="2852640"/>
            <a:ext cx="2592360" cy="3313080"/>
          </a:xfrm>
          <a:prstGeom prst="rect">
            <a:avLst/>
          </a:prstGeom>
          <a:solidFill>
            <a:srgbClr val="f2f3ed"/>
          </a:solidFill>
          <a:ln w="9360">
            <a:solidFill>
              <a:srgbClr val="000000"/>
            </a:solidFill>
            <a:miter/>
          </a:ln>
          <a:effectLst>
            <a:outerShdw dist="107932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8" name="Picture 11" descr="repin2"/>
          <p:cNvPicPr/>
          <p:nvPr/>
        </p:nvPicPr>
        <p:blipFill>
          <a:blip r:embed="rId3"/>
          <a:stretch/>
        </p:blipFill>
        <p:spPr>
          <a:xfrm>
            <a:off x="2700360" y="2924280"/>
            <a:ext cx="2443320" cy="3168720"/>
          </a:xfrm>
          <a:prstGeom prst="rect">
            <a:avLst/>
          </a:prstGeom>
          <a:ln w="0">
            <a:noFill/>
          </a:ln>
          <a:effectLst>
            <a:outerShdw dist="17819" dir="2700000" blurRad="0" rotWithShape="0">
              <a:srgbClr val="808080"/>
            </a:outerShdw>
          </a:effectLst>
        </p:spPr>
      </p:pic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4-22T21:15:30Z</dcterms:created>
  <dc:creator>МЫ ВМЕСТЕ!!!</dc:creator>
  <dc:description/>
  <dc:language>en-US</dc:language>
  <cp:lastModifiedBy>Owner</cp:lastModifiedBy>
  <dcterms:modified xsi:type="dcterms:W3CDTF">2011-07-11T09:40:56Z</dcterms:modified>
  <cp:revision>32</cp:revision>
  <dc:subject/>
  <dc:title>Особенности развития русской портретной живописи</dc:title>
</cp:coreProperties>
</file>